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dt" idx="6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sldNum" idx="7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4E455C-4025-46A4-88EE-B4F977303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1ED884-9AED-468D-AE2D-8717DFF2A7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1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A70905-5615-4626-81FB-E4DF2E305EC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8E54B2-1B36-44BF-86C4-05D2604F79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1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75C771-52D4-46FF-BB04-14F481BEB3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7CB842-6450-4A57-9C41-FAC45B6528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2FA886-26EB-491F-BE0B-F19002FC48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52A526-C9C4-4917-A41E-41609A1CD0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1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06AF65-AD55-4059-87F4-1D5A100211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B9F8C9-24FA-4B6B-9F1C-016C9AFFFE4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1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08E175-F63E-4696-8A76-76EE759CB3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891A-41FC-4704-990B-210D517EB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1F6F-3CA8-457E-96D6-4B353A8FDBA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566424-6B41-4FAF-BC33-66930B18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8133A1-F195-4B79-BC87-0BFC4974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EF3FA6-19CB-4523-8BF1-B5829190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07BC3-D3EF-4FCC-8951-03B2DA49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5DA970-E257-4EF9-B901-99FACE40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E2B3B8-9AAA-4349-B24F-FA7C807F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B24E5-2381-4E63-950D-348C8DEE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66E6BB-B91E-4C8E-B055-C726E299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C2688D-C87A-4946-AE42-98427A68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A50756-FCEB-4205-A38C-782A44B9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A15A-96E2-46EE-8255-AACA04D9C4B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4EF51C-1030-49E6-B805-C88F087B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FD1713-B39A-43FB-88D6-3DE61409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906B09-B5A0-4FA9-8061-743C0E87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DF1F98-D522-4117-8DD5-E9470413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AE4825-A0E7-48CB-B275-A75CCD86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D9AFD8-4838-4E3F-BE99-35072915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AF8C04-426D-4BA1-A862-90CFB3A2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44C1A8-84CB-4ADB-B0E2-465D8BC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2CE6B7-3D8C-4B80-A818-10C7A028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3F966F-CDAD-4547-9D4A-0679DD46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D138-FA76-4257-8EF8-BC7BA30AE06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2D1F15-8630-4E65-872D-F63FF0A4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4E9BBD-C03A-492D-BE72-2AB5C5B3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270FF4-B6C1-4C05-9999-A3B2AD77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5E159E-DC13-4404-8E32-FB737CE5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4D6B89-E763-419B-83B5-9DD01467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50A759-AAC9-4F14-AFD4-9238F699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8CC6D1-7B43-4F00-BF32-65A2B10C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2A2F34-32B2-4EFB-B656-1DCAC88F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B34D66-78C4-4E83-9DC2-D0534FAD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F7D5E5-CCB5-44F5-9E26-2513ABCA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CEB3-61A8-4C7F-A24B-E0B17DDA804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1AE82D-71D1-4695-B282-3A290833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83BEC7-2A5E-42F8-9A4E-1274CAF1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497240-A0A7-40BA-8466-CF866668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1C9525-92E9-4BFD-B8C8-4CE83392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D98DC2-0FBB-46CD-AEB5-AC57B029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D49D0F-01A8-4E0C-84B8-AB53E465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7C4027-D66A-4813-A64C-A0CF0C7E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971E28-FC15-48A0-80E8-28170D97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670CB3-8F16-4306-B4CC-0F71DD5E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C0945C-26F7-4B9E-9454-54D5CE4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CD3F-8F09-49C9-95F3-C9CB88C1055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F3D1AE-4864-4B34-8AD2-E6C37BD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9FBAF6-A97C-4760-A728-5AE653C6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F0BE37-7207-480A-8EEC-DDC3BFE2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5ED2E7-B1E0-4FBE-823E-C3238239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872535-B608-4863-8168-EC451142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0366DA-7A2D-4680-B635-F6E3E6DF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E3398D-9FCC-48B8-991B-54E3D82A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0208DA-4D1A-485D-9682-12916890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4FF20D-388F-4D6A-9CBB-7BF21B40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2C3414-F48B-4277-8385-C647E3A4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3AAF-C52C-4F6A-886C-BD918C74E9E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FF073F-019D-45D3-B5CA-7D124CD4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E3D47F-C98B-4918-8755-221B3ACE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97D15C-A412-4458-80DA-CA2C3998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FE7C6A-03DF-4CC1-A9BC-59D4B7D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70FCFB-BAC9-4C1A-BBF2-B5A11E78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2CA278-8F65-4DA1-B95E-3EB3EDFB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04E182-B2AC-4294-AAE4-BB845F5A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C3E4EA-FD18-49BA-8750-18EA1030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C26560-F36C-4FB7-A065-848B3BD6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C8C642-C818-4605-AE2D-AE071654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5B7EB-E4F5-4465-806C-9361DE284EF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A1456C-FDB8-4A8F-A679-B8A14EA0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CEB34F-D787-4585-A46A-771241A2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D88ECF-7511-4BD1-876D-F238BBE3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DA9DBD-C8CE-4E32-92AE-4305BC86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743D74-929B-4FF6-9217-CD4E026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4D1B87-98B3-4125-93CC-7807BFD5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37EF88-00AF-405C-8145-77ACEFE7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2C2799-ED4D-4CDA-A74B-EA60876B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8D7EC6-08F0-437F-A83D-C6BE7814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D00B84-FA9B-423B-A375-45A86BC9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3696-DD6E-4EB5-B8C4-4E1160663FC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59F511-FAAA-4A6F-BA79-4F3A6858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7DA87A-A725-4A1E-A029-82B1D80E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DFA262-9B06-423D-BE6D-A9D8E836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F5C675-9333-4893-B5DB-8F4FF99D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DDC375-E844-42AD-BE14-9AF8FB51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AAF175-26CA-4ACF-8EF9-5DE457FD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DBEBD2-B86E-40D7-A2FC-288736B9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6FB076-72A0-4D3D-9124-8A33C36B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41AD92-BE87-43F1-85C4-5EFBB4E8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48DC60-39D2-4A39-978E-30580C03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0313-6E9C-4900-B904-65356C3071C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C342A9-DB3B-4758-81F6-B7DC1A8E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E9EE4C-9B1C-4731-A99B-9EEC5925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3FFDC9-C771-4B3D-8BF5-DE0DE602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61BC0F-0C0B-4E2F-819D-CA1F0812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E3E0C9-B9BE-4F55-A8C5-54FBEA52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6802AC-05E4-454B-AE93-D738F229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988244-3A62-4220-A653-A8A25B85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A79254-ABE0-46C7-8DBD-38CEBA9A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A4765E-CA29-4F6F-8AFB-3A151BC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51381C-519C-4DB9-93D4-883D03A2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71F6-36E2-4011-A320-921780F3FDF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5A98B5-82B1-4282-8E45-E44FE20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9F4292-BE44-4FC5-8E56-2BABCD41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3A9992-5ED7-4D4D-8E09-EB566D97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D60FED-B1BB-4F89-92F7-5847B291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68C471-8E5B-467C-A765-C8E9BCEA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A19151-7DCA-458C-8151-1B53A3CC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5772C9-7697-4962-A16D-0D8E6BD1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275CBE-0193-4191-8427-D471997B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E0C58C-C467-4D7F-BA73-9802E1BF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702107-EC95-4BE6-A6EB-69585332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E73C-4133-43DA-85FA-368748A31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91BA-FCB5-47C2-AB03-315026832F4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F9AE80-0C62-4F95-A5E6-9F52F906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2AE231-9F86-49AD-8671-567B22B5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3A907D-8C7B-496D-80DB-AD48EFE9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A6FF39-17F5-4074-AC0E-7DCD048F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9B0FF0-8738-4C38-8565-6C777A1C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FD841D-3D7E-407E-899A-40B79034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91BF25-8C56-47AF-840E-C6DE227C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0B10C9-2945-489D-9DFF-A0131BD1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E2F0C3-B6B6-4450-9874-DA855373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5A2D22-CB4E-4462-B4E2-40CBFB28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60F5-5746-4647-B3B7-DB3CE9A2EBA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3F0B2F-7B34-45FE-A92A-9D14F1BA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921DD2-3835-434D-9AF3-7DE39600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6EBF24-45C8-4333-82B2-CD515630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5DA924-A92D-499D-8758-190B03A2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C0D203-D094-423D-84C8-FB2D69C9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4117B9-2A11-4EB1-872D-214B3001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0E5853-DDF5-4AB7-A085-B3A30722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BC63B51-4D81-4085-B56A-369DF850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C0C97CC-5884-4B06-ABF8-57F182B3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CAD1746-A28E-4BA0-87B7-5F8101CD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CAF1-36B2-47F0-87AD-71CD17D0D3C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D6CDDD-1EEF-44D2-97CC-F4470327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2C3488-1EDE-4BEA-BC7E-63A65A4F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E4BD70-10CD-4984-A9B6-3E992B31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BBEF93E-79AA-4145-A88E-D60873E7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1A5BD52-B2AF-4AFE-919D-AD2F8929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BEA6CD-4602-4DA7-82B7-65FEEFB2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47C7BB-DA00-4F70-AB58-50CF705A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A9ACC3-80A6-4CDB-A3FD-5A8F3E96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5DE22CC-0E1E-4425-9C18-A85EDD3E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F4FA98-9B76-472B-A485-6CA28F95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FC8F-1837-4FD8-B44F-4DBCE9972F1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85C02C6-016D-4B6A-B8EE-91DF9089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97346E-27AB-4F77-B4AD-DD76A44F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3F510E4-38EB-4C4A-9598-4AF17F46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594C34-494B-44AD-AB2B-9F7215AF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CACC28-40F4-402B-B976-32D4E5C4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F07DCB-24BB-48E5-AC86-9916E87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64EBD8-F2CA-4FE8-908D-A32EE864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7DD600-9F6B-4CA0-A406-9AD55BE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8D210E-0F8A-4E9F-9DEC-8558C3EE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D8E615-1F16-41D9-816C-2713B29B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320E-F61F-4100-B3FF-C819CC11C16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9F1365-2388-4154-A75C-65E6A44B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526738-AD2A-4060-AFFA-1629C2FE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198AE3-8D6B-444A-BA54-1D912AB5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D9EAD82-48A7-43B2-A3BF-5B0F81EE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5F317A9-2B5C-4821-9FE4-FAC7073E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83F9CF7-CE45-492F-BB94-0AFDAACD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1B8D4E-09F1-4ED4-964A-ED9B0F6A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EE47509-A957-4CBE-B237-270FC9E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5F0338-BBCD-4C82-9DE4-31FF0829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640726-48A1-4BA7-B7CA-C1FECEA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47E23-EAC6-4EB4-A628-7481EC58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6A98B8-2CE5-44FB-8167-C5867DD5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B29276F-7AEF-4742-92A4-87B85C41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BF272E-B049-4FF9-8D7B-61E94397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544D6A-7762-46BE-B4DA-2CD1EFA5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4953B65-E763-4F7C-893B-FD360038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F595235-ED71-410A-9785-AF3DF159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FA31CF-39D4-4E42-9FC1-0C4F1D83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B6D0771-39D5-4A14-9891-13A13657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504D99-8B2A-47C2-A359-C51D54D5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EBDDD5-E7D6-4E91-B61E-20EB26DF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A8FE2-630B-4EE7-B881-16DC4544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7ABC157-F291-4442-A349-30C0006E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F3D7EF1-1E92-4993-9E95-9E899B0D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E9EEA63-BB81-47A6-A136-FD3B717C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8E5BCE-4E71-460E-83AD-D963795B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387D043-358A-466D-828A-E07424C1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5BDF260-AAFE-4488-8ADA-72E31598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FB07A72-34A1-4400-90A2-FD090B9C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E82520-AE50-4C77-9AAB-F65EE606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9FBE54-5A86-4DBC-9EFC-0E43D293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C480454-CC7C-4A4C-ABA0-43E2C680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0B090-AD98-42DE-8B5F-BC853C06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8DA690B-38B2-45B1-B509-1CFF540F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FCD909-E638-41BB-AB8C-25E32066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5003474-FA56-4985-9B75-DD0712D4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E0F38EA-8086-451D-990E-E0F8FBDF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81BA802-1F89-4372-8037-3309B033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01D3DF-E228-4A3B-87ED-BF95E36D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AEB9A1A-D390-4E33-B540-BC22C364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B35F0A-FE8B-48F2-B702-8375EA15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DDE1841-C566-49B5-A475-47E0B1C9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43B4487-2064-41FB-8798-4F5B5EA2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5403F-616F-464C-A383-1B97B2FB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ECD1D4C-1101-415C-83BF-2C5E98CE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41F7F4-6BDA-405A-9A48-7F5A58E5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8757BFE-43F2-4398-8E19-BBE1FE8C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389B37F-85EA-49E3-9014-02BAF00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2051331-04C3-435B-877D-A3335347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2C90A3-CA7C-42A5-A7A6-2CC7A1B5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836FE0-4D16-46E6-98C1-7FA75DA7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22D0BC3-0EDB-4480-8DEE-3D39DF1E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E4A617A-8D9D-46E5-88C0-4964FD47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2CB5D-2882-4AD5-BB67-C56E3742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AEDC-159E-48DF-A2A7-139ED85EB5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C5CA5-EB22-48E2-8039-867F5360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A6496-B5DA-42AC-9988-75037E49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D751C-4B56-4121-8557-6EF36B1B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11B3F-8174-45AE-9962-3D05169E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479DC-A84E-4D21-B74F-EB37A53D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7662D-1044-43D1-8B15-344C0C14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3BFAF-DF5E-4518-B373-935217AA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DE6A3-34FD-4AE4-BDEE-51DF4BA0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8FFF6-C917-4FEB-AC66-A742A7D3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638B3-6E5A-41F1-9851-BFFA067A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26D1-93EE-46F4-8B7E-52A6114062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1280D-C83F-40F5-A842-4CCCB05C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314B7-408A-4240-8418-1D4634D7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9D573-E775-4F0E-9C0D-CCD5B9B8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52855-FE90-4FFC-8EC3-FC8993C1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11F82-43E9-4BD7-B42E-96770C3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76C47-FFBB-4D48-830E-4983278E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174D9-8566-4AAC-A1F6-95BE873F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7FF8C-C1FC-44B0-BEB5-9157C422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37508-810A-4AEA-B1DC-CC0B164F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96640-09CB-4252-A7BB-286942A2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E405-D0D7-459B-8D75-EE1F6644609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FD0FC-6264-47CF-8133-B9F71AC3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02D36-9E1B-45DA-918F-ECF1C2D8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3791E-706D-4578-A1A8-766B098C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23363-710D-45B4-AA70-F90E9881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17190-149C-4EF0-91F1-DA7A0233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5959F-D5C9-46B5-AF77-23824665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81109-E3FC-46A9-86AD-6FDB6997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13949-B5B2-416F-B340-EFF46A65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D88B0-0879-4820-8336-2E461E6A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2A9C5-CFE4-49A7-93F4-1F415A93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EE98-5087-4496-B51D-44CE4722AC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D1AEB-EEED-423A-8752-1F86DDED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F948C-6EF9-4ABA-842B-D240B866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64E14-E977-434B-8658-35C86337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CAA5F-4513-43D6-B015-90E383C8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24AD7-C0F2-46E1-9EC1-86E3FE1E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617BF-BA9B-4825-BC3F-64581D7F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BCA93-C436-42AE-BB70-0E69CB78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A0C40-6C0F-4588-810E-41425731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86E9E-905B-4F82-A3AE-FD2C0513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6F660-0D30-4BE1-9483-A5D646C4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BEE7-EE0B-4E59-99D0-E858DBE7EF8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8CD39-3149-4F02-9982-893B640D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E0E10-B1D1-419D-90F0-99CCE203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F44E6-16BE-40DF-A57A-BCB30EFE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E20E8-7C8E-4C44-926F-C7B2F3E6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BE15F-1E4A-4B20-BCCF-F3D39EBB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43E67-B6AE-42BB-8062-30F18298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B9F06-27C6-4AAE-B7E2-F756FB92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B9A6E-3A66-49C6-B738-78D69B26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07FE3-8A16-42E6-AC81-54C1F804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6DCC1-27D4-432E-AF5C-CF96FE04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422B-C531-453D-9C57-17DC5264CC7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BD405-12A8-4F83-AD66-89E1BA6A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FB66A-2F1A-4CAE-9537-B7127B5B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ED59C-AC34-4162-BDC3-887ABDF3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EA094-1AE4-49B4-91AB-9FD310FF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6CCB1-7CCE-4578-989E-2F424806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CC8DD-FC28-4510-AD72-377B9D7C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4DCBE-4399-4B20-8BDB-B9924D59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87EE4-D9D4-4269-99B9-074C498B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80AFD1-BF72-47F6-A0B8-BF52ACF8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2CBB0-07FE-4676-B2CC-E0B96A61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1692-73F0-4C81-9DE5-91EA3D75E3F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94728-B8C0-49A6-BBEB-85F9FAA8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25B14-C740-4618-B378-45C90E9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C8F24-3B2E-4E89-A4FB-2F12A5E8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87EC5-D447-441B-94D0-FA62F524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86473-0FD0-48F9-BDA1-450FD6D9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B7BC2-F1F5-40DE-813A-3B4042D4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661C6-FE5E-40EB-AD62-36C9F76E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9CF812-00F4-4087-B8B7-FF949204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FF4D0B-A2E3-4E5F-86B7-C2B25FE3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987FC4-3F65-45E9-BF6F-2A696F26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E94828-5A4C-480B-A866-BDA08530F8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4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5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C02CC0-30E0-4AEA-B9F1-F9A4D88FDA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7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8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B239E8-F177-4428-8CC9-01204632DC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0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1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953D62-0B3B-45AC-BDCF-6FAFBB5F0A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3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4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71CFC4-51AE-4BB3-ABF0-B38BE5E414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6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7AA39F-9B26-47E3-B963-DA9B60493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9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59E81F-6FDF-4EDA-A880-57C7AFBF8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2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269396-4FE2-4045-B1E4-697049BDE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E5F0C5-777F-4F0F-B56B-9643EB47E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48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4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CF90B3-A709-4B9B-907E-63471A5C9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5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5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5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F673BF-883B-42AD-8F71-C2697DB5A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9A26FB-337D-42C3-B2D9-82D68D36A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542ADD-58F2-4D06-8FEB-93092FB8A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5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5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5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DEEEF4-DD4F-4D94-B347-EE77F5904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60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6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E82C4E-AA36-4754-8BC4-C4ABDBB50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63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6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6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1A8BE3-C7E7-4440-943E-27AC945D7F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66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6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6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360554-BA5D-4832-A4E4-6B5CB9842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1500AF-E3E2-4BAD-B376-0A1A217AF4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45E8CA-BF73-4486-AE92-3047162522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9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0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949DD4-73FB-4394-AD14-F9DFAB1CCB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2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3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0C5C17-29E7-453B-9635-BE510CF968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6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47F314-22CA-4995-A97F-9FAC1CEF199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8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9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F4EDCC-B80C-44CE-B66D-D4EDCF5305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02C262-C7EA-49B1-BD90-7342204F9BD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262699"/>
                </a:solidFill>
                <a:latin typeface="HGPｺﾞｼｯｸE"/>
                <a:ea typeface="HGPｺﾞｼｯｸE"/>
              </a:rPr>
              <a:t>TVML SDK on UNITY</a:t>
            </a:r>
            <a:br>
              <a:rPr sz="6000"/>
            </a:br>
            <a:r>
              <a:rPr b="0" lang="ja-JP" sz="6000" spc="-1" strike="noStrike">
                <a:solidFill>
                  <a:srgbClr val="262699"/>
                </a:solidFill>
                <a:latin typeface="HGPｺﾞｼｯｸE"/>
                <a:ea typeface="HGPｺﾞｼｯｸE"/>
              </a:rPr>
              <a:t>チュートリア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 Box 2"/>
          <p:cNvSpPr/>
          <p:nvPr/>
        </p:nvSpPr>
        <p:spPr>
          <a:xfrm>
            <a:off x="1357200" y="41162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pril, 201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VML SDK Vesion1.2.1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対応）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404040"/>
                </a:solidFill>
                <a:latin typeface="Calibri"/>
              </a:rPr>
              <a:t>林正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ソースファイルのアタッ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4" name="Text Box 3"/>
          <p:cNvSpPr/>
          <p:nvPr/>
        </p:nvSpPr>
        <p:spPr>
          <a:xfrm>
            <a:off x="425520" y="112068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Hierarchy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に、ソースコードをドラグアンドドロップ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5" name="Picture 6" descr=""/>
          <p:cNvPicPr/>
          <p:nvPr/>
        </p:nvPicPr>
        <p:blipFill>
          <a:blip r:embed="rId1"/>
          <a:stretch/>
        </p:blipFill>
        <p:spPr>
          <a:xfrm>
            <a:off x="2577960" y="2030400"/>
            <a:ext cx="4230720" cy="4487760"/>
          </a:xfrm>
          <a:prstGeom prst="rect">
            <a:avLst/>
          </a:prstGeom>
          <a:ln w="0">
            <a:noFill/>
          </a:ln>
        </p:spPr>
      </p:pic>
      <p:cxnSp>
        <p:nvCxnSpPr>
          <p:cNvPr id="1046" name="直線矢印コネクタ 2"/>
          <p:cNvCxnSpPr/>
          <p:nvPr/>
        </p:nvCxnSpPr>
        <p:spPr>
          <a:xfrm flipH="1" flipV="1">
            <a:off x="2971440" y="2415600"/>
            <a:ext cx="1197360" cy="1889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のアタッ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8" name="Text Box 3"/>
          <p:cNvSpPr/>
          <p:nvPr/>
        </p:nvSpPr>
        <p:spPr>
          <a:xfrm>
            <a:off x="425520" y="112068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作成したソースコードのコンポーネント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"txtAsset"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に、適当な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をドラグアンドドロップしてアタッ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2517840" y="1949400"/>
            <a:ext cx="4260960" cy="4489560"/>
          </a:xfrm>
          <a:prstGeom prst="rect">
            <a:avLst/>
          </a:prstGeom>
          <a:ln w="0">
            <a:noFill/>
          </a:ln>
        </p:spPr>
      </p:pic>
      <p:cxnSp>
        <p:nvCxnSpPr>
          <p:cNvPr id="1050" name="直線矢印コネクタ 2"/>
          <p:cNvCxnSpPr/>
          <p:nvPr/>
        </p:nvCxnSpPr>
        <p:spPr>
          <a:xfrm>
            <a:off x="4373640" y="4245120"/>
            <a:ext cx="1730880" cy="1829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起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584280" y="1096920"/>
            <a:ext cx="8259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再生ボタンを押して起動した後、「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」キーを押して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が再生されれば成功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3" name="Picture 5" descr=""/>
          <p:cNvPicPr/>
          <p:nvPr/>
        </p:nvPicPr>
        <p:blipFill>
          <a:blip r:embed="rId1"/>
          <a:stretch/>
        </p:blipFill>
        <p:spPr>
          <a:xfrm>
            <a:off x="774720" y="2252520"/>
            <a:ext cx="75312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割り込みスクリプト再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Rectangle 13"/>
          <p:cNvSpPr/>
          <p:nvPr/>
        </p:nvSpPr>
        <p:spPr>
          <a:xfrm>
            <a:off x="46080" y="2562120"/>
            <a:ext cx="864720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( Input.GetKeyDown(KeyCode.N)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.interruptScript ("character:bow(name=A, speed=3, wait=no)\n"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6" name="Text Box 3"/>
          <p:cNvSpPr/>
          <p:nvPr/>
        </p:nvSpPr>
        <p:spPr>
          <a:xfrm>
            <a:off x="425520" y="1314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テキストファイルを割り込みスクリプトとして再生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以下のコードを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update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関数に追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7" name="Text Box 3"/>
          <p:cNvSpPr/>
          <p:nvPr/>
        </p:nvSpPr>
        <p:spPr>
          <a:xfrm>
            <a:off x="563400" y="466740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キーで再生した後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キーを押して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bow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（おじぎ）すれば成功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Text Box 1"/>
          <p:cNvSpPr/>
          <p:nvPr/>
        </p:nvSpPr>
        <p:spPr>
          <a:xfrm>
            <a:off x="515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割り込みスクリプト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Text Box 2"/>
          <p:cNvSpPr/>
          <p:nvPr/>
        </p:nvSpPr>
        <p:spPr>
          <a:xfrm>
            <a:off x="303120" y="1200240"/>
            <a:ext cx="164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インスクリプト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0" name="Line 3"/>
          <p:cNvSpPr/>
          <p:nvPr/>
        </p:nvSpPr>
        <p:spPr>
          <a:xfrm>
            <a:off x="1093680" y="1673280"/>
            <a:ext cx="1800" cy="4236840"/>
          </a:xfrm>
          <a:prstGeom prst="line">
            <a:avLst/>
          </a:prstGeom>
          <a:ln w="7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1" name="Line 4"/>
          <p:cNvSpPr/>
          <p:nvPr/>
        </p:nvSpPr>
        <p:spPr>
          <a:xfrm>
            <a:off x="1022400" y="1677960"/>
            <a:ext cx="14292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Line 5"/>
          <p:cNvSpPr/>
          <p:nvPr/>
        </p:nvSpPr>
        <p:spPr>
          <a:xfrm>
            <a:off x="1011240" y="5916600"/>
            <a:ext cx="14292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3" name="Line 6"/>
          <p:cNvSpPr/>
          <p:nvPr/>
        </p:nvSpPr>
        <p:spPr>
          <a:xfrm>
            <a:off x="3552840" y="1687680"/>
            <a:ext cx="1440" cy="1838160"/>
          </a:xfrm>
          <a:prstGeom prst="line">
            <a:avLst/>
          </a:prstGeom>
          <a:ln w="72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4" name="Line 7"/>
          <p:cNvSpPr/>
          <p:nvPr/>
        </p:nvSpPr>
        <p:spPr>
          <a:xfrm>
            <a:off x="3467160" y="1677960"/>
            <a:ext cx="14292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Line 8"/>
          <p:cNvSpPr/>
          <p:nvPr/>
        </p:nvSpPr>
        <p:spPr>
          <a:xfrm>
            <a:off x="3495600" y="3541680"/>
            <a:ext cx="14292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Line 9"/>
          <p:cNvSpPr/>
          <p:nvPr/>
        </p:nvSpPr>
        <p:spPr>
          <a:xfrm>
            <a:off x="3552840" y="3521160"/>
            <a:ext cx="1440" cy="18381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Line 10"/>
          <p:cNvSpPr/>
          <p:nvPr/>
        </p:nvSpPr>
        <p:spPr>
          <a:xfrm>
            <a:off x="5032440" y="2255760"/>
            <a:ext cx="1440" cy="1284480"/>
          </a:xfrm>
          <a:prstGeom prst="line">
            <a:avLst/>
          </a:prstGeom>
          <a:ln w="72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8" name="Line 11"/>
          <p:cNvSpPr/>
          <p:nvPr/>
        </p:nvSpPr>
        <p:spPr>
          <a:xfrm>
            <a:off x="4946760" y="2247840"/>
            <a:ext cx="14292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Line 12"/>
          <p:cNvSpPr/>
          <p:nvPr/>
        </p:nvSpPr>
        <p:spPr>
          <a:xfrm>
            <a:off x="4959360" y="3541680"/>
            <a:ext cx="14292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Line 13"/>
          <p:cNvSpPr/>
          <p:nvPr/>
        </p:nvSpPr>
        <p:spPr>
          <a:xfrm>
            <a:off x="5046840" y="3549600"/>
            <a:ext cx="1440" cy="1540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Line 14"/>
          <p:cNvSpPr/>
          <p:nvPr/>
        </p:nvSpPr>
        <p:spPr>
          <a:xfrm>
            <a:off x="6168960" y="3151080"/>
            <a:ext cx="1800" cy="1284480"/>
          </a:xfrm>
          <a:prstGeom prst="line">
            <a:avLst/>
          </a:prstGeom>
          <a:ln w="72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2" name="Line 15"/>
          <p:cNvSpPr/>
          <p:nvPr/>
        </p:nvSpPr>
        <p:spPr>
          <a:xfrm>
            <a:off x="6083280" y="3143160"/>
            <a:ext cx="14292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Line 16"/>
          <p:cNvSpPr/>
          <p:nvPr/>
        </p:nvSpPr>
        <p:spPr>
          <a:xfrm>
            <a:off x="6097680" y="4437000"/>
            <a:ext cx="14292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Line 17"/>
          <p:cNvSpPr/>
          <p:nvPr/>
        </p:nvSpPr>
        <p:spPr>
          <a:xfrm>
            <a:off x="6183360" y="4444920"/>
            <a:ext cx="1440" cy="1540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5" name="Line 18"/>
          <p:cNvSpPr/>
          <p:nvPr/>
        </p:nvSpPr>
        <p:spPr>
          <a:xfrm flipV="1">
            <a:off x="1136520" y="1746000"/>
            <a:ext cx="2318040" cy="1368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6" name="Line 19"/>
          <p:cNvSpPr/>
          <p:nvPr/>
        </p:nvSpPr>
        <p:spPr>
          <a:xfrm flipV="1">
            <a:off x="3595680" y="2344680"/>
            <a:ext cx="1365120" cy="217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Line 20"/>
          <p:cNvSpPr/>
          <p:nvPr/>
        </p:nvSpPr>
        <p:spPr>
          <a:xfrm>
            <a:off x="5060880" y="3041640"/>
            <a:ext cx="981000" cy="100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Line 21"/>
          <p:cNvSpPr/>
          <p:nvPr/>
        </p:nvSpPr>
        <p:spPr>
          <a:xfrm flipH="1" flipV="1">
            <a:off x="1134720" y="3240000"/>
            <a:ext cx="4923000" cy="116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9" name="Text Box 22"/>
          <p:cNvSpPr/>
          <p:nvPr/>
        </p:nvSpPr>
        <p:spPr>
          <a:xfrm>
            <a:off x="2762280" y="1271520"/>
            <a:ext cx="217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割り込みスクリプ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0" name="Text Box 23"/>
          <p:cNvSpPr/>
          <p:nvPr/>
        </p:nvSpPr>
        <p:spPr>
          <a:xfrm>
            <a:off x="303120" y="1200240"/>
            <a:ext cx="164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インスクリプト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Text Box 24"/>
          <p:cNvSpPr/>
          <p:nvPr/>
        </p:nvSpPr>
        <p:spPr>
          <a:xfrm>
            <a:off x="4241880" y="1811160"/>
            <a:ext cx="217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割り込みスクリプ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Text Box 25"/>
          <p:cNvSpPr/>
          <p:nvPr/>
        </p:nvSpPr>
        <p:spPr>
          <a:xfrm>
            <a:off x="5948280" y="2692440"/>
            <a:ext cx="217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割り込みスクリプ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Text Box 26"/>
          <p:cNvSpPr/>
          <p:nvPr/>
        </p:nvSpPr>
        <p:spPr>
          <a:xfrm>
            <a:off x="3205080" y="530064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l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4" name="Text Box 27"/>
          <p:cNvSpPr/>
          <p:nvPr/>
        </p:nvSpPr>
        <p:spPr>
          <a:xfrm>
            <a:off x="4740120" y="49831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l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Text Box 28"/>
          <p:cNvSpPr/>
          <p:nvPr/>
        </p:nvSpPr>
        <p:spPr>
          <a:xfrm>
            <a:off x="5834160" y="58500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l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Text Box 29"/>
          <p:cNvSpPr/>
          <p:nvPr/>
        </p:nvSpPr>
        <p:spPr>
          <a:xfrm>
            <a:off x="488880" y="5992920"/>
            <a:ext cx="1166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終わったらアイドリング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Text Box 30"/>
          <p:cNvSpPr/>
          <p:nvPr/>
        </p:nvSpPr>
        <p:spPr>
          <a:xfrm>
            <a:off x="6753240" y="3270240"/>
            <a:ext cx="22478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割り込みスクリプトは、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最後の行まで行った後に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すぐ前のスクリプトへ戻るか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ling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なるか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メインスクリプトに戻るか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が選べる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8" name="Line 31"/>
          <p:cNvSpPr/>
          <p:nvPr/>
        </p:nvSpPr>
        <p:spPr>
          <a:xfrm flipH="1">
            <a:off x="6267600" y="3852720"/>
            <a:ext cx="54288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Text Box 32"/>
          <p:cNvSpPr/>
          <p:nvPr/>
        </p:nvSpPr>
        <p:spPr>
          <a:xfrm rot="19980000">
            <a:off x="1639800" y="2112840"/>
            <a:ext cx="12463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ruptScript(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Text Box 33"/>
          <p:cNvSpPr/>
          <p:nvPr/>
        </p:nvSpPr>
        <p:spPr>
          <a:xfrm rot="780000">
            <a:off x="1385640" y="3573360"/>
            <a:ext cx="21002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ruptScriptThenReturnToMain(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Text Box 34"/>
          <p:cNvSpPr/>
          <p:nvPr/>
        </p:nvSpPr>
        <p:spPr>
          <a:xfrm>
            <a:off x="2751120" y="5792760"/>
            <a:ext cx="1558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終わった時点の絵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アイドリング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Text Box 35"/>
          <p:cNvSpPr/>
          <p:nvPr/>
        </p:nvSpPr>
        <p:spPr>
          <a:xfrm>
            <a:off x="77760" y="2894040"/>
            <a:ext cx="10047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割り込み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場所を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覚えている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Line 21"/>
          <p:cNvSpPr/>
          <p:nvPr/>
        </p:nvSpPr>
        <p:spPr>
          <a:xfrm flipH="1" flipV="1">
            <a:off x="1119240" y="3144960"/>
            <a:ext cx="2419200" cy="404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Line 21"/>
          <p:cNvSpPr/>
          <p:nvPr/>
        </p:nvSpPr>
        <p:spPr>
          <a:xfrm flipH="1">
            <a:off x="3595680" y="3541680"/>
            <a:ext cx="14637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Line 21"/>
          <p:cNvSpPr/>
          <p:nvPr/>
        </p:nvSpPr>
        <p:spPr>
          <a:xfrm flipH="1" flipV="1">
            <a:off x="5101920" y="3090960"/>
            <a:ext cx="1052280" cy="131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6" name="正方形/長方形 1"/>
          <p:cNvSpPr/>
          <p:nvPr/>
        </p:nvSpPr>
        <p:spPr>
          <a:xfrm>
            <a:off x="492480" y="8874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ayScript(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7" name="正方形/長方形 40"/>
          <p:cNvSpPr/>
          <p:nvPr/>
        </p:nvSpPr>
        <p:spPr>
          <a:xfrm>
            <a:off x="3012120" y="95868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teruptScript(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正方形/長方形 2"/>
          <p:cNvSpPr/>
          <p:nvPr/>
        </p:nvSpPr>
        <p:spPr>
          <a:xfrm>
            <a:off x="2889720" y="6232680"/>
            <a:ext cx="210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ruptScriptThenIdling(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ヒント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0" name="Text Box 3"/>
          <p:cNvSpPr/>
          <p:nvPr/>
        </p:nvSpPr>
        <p:spPr>
          <a:xfrm>
            <a:off x="870120" y="1246320"/>
            <a:ext cx="75024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ssets/Scene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中に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 Player, interruption, autonew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シーンファイルが入っているので、それぞれダブルクリックして起動してみるとよい。それぞれ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 Playe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、簡単なインタラクティブアプリ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HT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から自動的にアニメーション生成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ssets/application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中に、上述のソースがある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ssets/TVMLSDK/Resource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下に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で使える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CG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モデルなどのリソースが入っている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ムービーも使える。サンプル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movieplatetest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を再生するとわかる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セットやプロップなど静止した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CG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モデルは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Unity Edito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上で配置して使っても構わない（必ずしも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の中で定義しなくていい）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デフォルトのままだと照明が暗く空気感も悪い。これはやはり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Unity Edito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上で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GI (Global Illumination)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などの様々な機能を駆使して作り込んでしまってもよい（必ずしも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の中で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light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定義しなくていい）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キャラクタの新規追加は別途手順が必要（問い合わせてください）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課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Text Box 3"/>
          <p:cNvSpPr/>
          <p:nvPr/>
        </p:nvSpPr>
        <p:spPr>
          <a:xfrm>
            <a:off x="1846440" y="2521080"/>
            <a:ext cx="58608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marL="226080" indent="-226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再生・停止・一時停止ボタンを追加してください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行番号を表示してください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クイズを仕込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90320" indent="-18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・ボタンを押すとキャラがカメラ目線になってクイズを出題し、ユーザー入力待ちになる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490320" indent="-18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・ユーザーがキー入力などで回答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490320" indent="-18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・正解不正解を告げて、元のメインスクリプトへ戻る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2"/>
          <p:cNvSpPr/>
          <p:nvPr/>
        </p:nvSpPr>
        <p:spPr>
          <a:xfrm>
            <a:off x="328680" y="2165400"/>
            <a:ext cx="85723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言語仕様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ersion 3.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http://wjis76df.sakura.ne.jp/t2vlab/spec/tvmlspec31/index.htm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4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saka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Osaka"/>
              </a:rPr>
              <a:t>言語仕様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</a:rPr>
              <a:t>準備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468360" y="1989000"/>
            <a:ext cx="8269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SDK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のプロジェクトとして提供（フォルダ名：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TvmlSDK1.2.1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）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Osak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Unity 5.3.4f1 (32-bit)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をインストールする（またはこれ以降のバージョン）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Osaka"/>
                <a:ea typeface="Osaka"/>
              </a:rPr>
              <a:t>Unity</a:t>
            </a:r>
            <a:r>
              <a:rPr b="0" lang="ja-JP" sz="2000" spc="-1" strike="noStrike">
                <a:solidFill>
                  <a:srgbClr val="ff0000"/>
                </a:solidFill>
                <a:latin typeface="Osaka"/>
                <a:ea typeface="Osaka"/>
              </a:rPr>
              <a:t>に関する注意事項（重要）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Osak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SDK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は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のみ。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32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ビットじゃないと音声合成が動かないので必ず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32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ビットの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を使うこと（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デフォルトでは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64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ビット）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32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ビットインストーラーは、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Download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ページの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Older versions of 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へ行き、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Editor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32-bit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をダウンロードしてインストールす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これだけでは、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Web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Player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しか使えないので、別途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ビルド用モジュールをインストールしないといけない。同じく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Older versions of 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 で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Installer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をダウンロードし、インストーラを起動し、インストールモジュール選択画面が出るので、そこで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Build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Support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にチェックを入れ、後のチェックをすべて外し、インストールす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以上でインストール終了。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を起動し、プロジェクト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TvmlSDK1.2.1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を開き、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File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～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Build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settings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を選ぶ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Platform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の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PC, Mac &amp; Linux Standalone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をクリックし、左下の「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Switch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saka"/>
                <a:ea typeface="Osaka"/>
              </a:rPr>
              <a:t>Platform</a:t>
            </a:r>
            <a:r>
              <a:rPr b="0" lang="ja-JP" sz="1800" spc="-1" strike="noStrike">
                <a:solidFill>
                  <a:srgbClr val="000000"/>
                </a:solidFill>
                <a:latin typeface="Osaka"/>
                <a:ea typeface="Osaka"/>
              </a:rPr>
              <a:t>」ボタンを押す。以上で正しく起動する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日付プレースホルダー 1"/>
          <p:cNvSpPr/>
          <p:nvPr/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/04/1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フッター プレースホルダー 2"/>
          <p:cNvSpPr/>
          <p:nvPr/>
        </p:nvSpPr>
        <p:spPr>
          <a:xfrm>
            <a:off x="3124080" y="6354720"/>
            <a:ext cx="289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2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</a:rPr>
              <a:t>まずは動作チェック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Text Box 3"/>
          <p:cNvSpPr/>
          <p:nvPr/>
        </p:nvSpPr>
        <p:spPr>
          <a:xfrm>
            <a:off x="474840" y="552600"/>
            <a:ext cx="8269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Project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ペイン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Assets/TVMLSDK/Scene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の中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Scene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ファイル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"TVMLPlayer"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をダブルクリック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Unity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の再生ボタンを押すと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Playe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が起動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注： </a:t>
            </a:r>
            <a:r>
              <a:rPr b="0" lang="en-US" sz="1600" spc="-1" strike="noStrike">
                <a:solidFill>
                  <a:srgbClr val="000000"/>
                </a:solidFill>
                <a:latin typeface="Osaka"/>
                <a:ea typeface="Osaka"/>
              </a:rPr>
              <a:t>Game</a:t>
            </a: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再生画面の左上プルダウンで</a:t>
            </a:r>
            <a:r>
              <a:rPr b="0" lang="en-US" sz="1600" spc="-1" strike="noStrike">
                <a:solidFill>
                  <a:srgbClr val="000000"/>
                </a:solidFill>
                <a:latin typeface="Osaka"/>
                <a:ea typeface="Osaka"/>
              </a:rPr>
              <a:t>"Standalone(883x535)</a:t>
            </a: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を選び、再生画面を十分大きく取っておく。そうしないと</a:t>
            </a:r>
            <a:r>
              <a:rPr b="0" lang="en-US" sz="1600" spc="-1" strike="noStrike">
                <a:solidFill>
                  <a:srgbClr val="000000"/>
                </a:solidFill>
                <a:latin typeface="Osaka"/>
                <a:ea typeface="Osaka"/>
              </a:rPr>
              <a:t>TVML Player</a:t>
            </a: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の操作ボタン類が隠れて出ない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Playe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のファイル選択アイコンを押して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スクリプト（例：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3people.txt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）を選んで、再生ボタンを押す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注： </a:t>
            </a:r>
            <a:r>
              <a:rPr b="0" lang="en-US" sz="1600" spc="-1" strike="noStrike">
                <a:solidFill>
                  <a:srgbClr val="000000"/>
                </a:solidFill>
                <a:latin typeface="Osaka"/>
                <a:ea typeface="Osaka"/>
              </a:rPr>
              <a:t>TVML</a:t>
            </a: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サンプルスクリプトは</a:t>
            </a:r>
            <a:r>
              <a:rPr b="0" lang="en-US" sz="1600" spc="-1" strike="noStrike">
                <a:solidFill>
                  <a:srgbClr val="000000"/>
                </a:solidFill>
                <a:latin typeface="Osaka"/>
                <a:ea typeface="Osaka"/>
              </a:rPr>
              <a:t>"Assets/TVMLSDK/Resources/TVML Scripts"</a:t>
            </a: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の中にいくつかある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下記のように再生が始まり、音声合成の音が出れば成功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TVML Player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の表示サイズは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853x480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でアスペクト比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16:9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で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Osaka"/>
              </a:rPr>
              <a:t>YouTube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Osaka"/>
              </a:rPr>
              <a:t>と同サイズにしてある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8" name="Picture 7" descr=""/>
          <p:cNvPicPr/>
          <p:nvPr/>
        </p:nvPicPr>
        <p:blipFill>
          <a:blip r:embed="rId1"/>
          <a:stretch/>
        </p:blipFill>
        <p:spPr>
          <a:xfrm>
            <a:off x="2409840" y="4376880"/>
            <a:ext cx="42372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TVML SD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アプリ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Text Box 6"/>
          <p:cNvSpPr/>
          <p:nvPr/>
        </p:nvSpPr>
        <p:spPr>
          <a:xfrm>
            <a:off x="981000" y="3022560"/>
            <a:ext cx="1828800" cy="10666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XX.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168560" y="2530440"/>
            <a:ext cx="186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Text Box 6"/>
          <p:cNvSpPr/>
          <p:nvPr/>
        </p:nvSpPr>
        <p:spPr>
          <a:xfrm>
            <a:off x="5364000" y="3046320"/>
            <a:ext cx="2092320" cy="104292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vmlengin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Text Box 9"/>
          <p:cNvSpPr/>
          <p:nvPr/>
        </p:nvSpPr>
        <p:spPr>
          <a:xfrm>
            <a:off x="5551560" y="2554200"/>
            <a:ext cx="186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VML SD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14" name="直線矢印コネクタ 17"/>
          <p:cNvCxnSpPr/>
          <p:nvPr/>
        </p:nvCxnSpPr>
        <p:spPr>
          <a:xfrm>
            <a:off x="2919240" y="3209400"/>
            <a:ext cx="2377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5" name="Text Box 9"/>
          <p:cNvSpPr/>
          <p:nvPr/>
        </p:nvSpPr>
        <p:spPr>
          <a:xfrm>
            <a:off x="2743200" y="1841400"/>
            <a:ext cx="3594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4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(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layerViewPortRect(0,0,1,1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Script(text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直線コネクタ 20"/>
          <p:cNvSpPr/>
          <p:nvPr/>
        </p:nvSpPr>
        <p:spPr>
          <a:xfrm flipV="1">
            <a:off x="3968640" y="274428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17" name="直線矢印コネクタ 26"/>
          <p:cNvCxnSpPr/>
          <p:nvPr/>
        </p:nvCxnSpPr>
        <p:spPr>
          <a:xfrm flipH="1">
            <a:off x="2918880" y="3512880"/>
            <a:ext cx="2377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8" name="Text Box 9"/>
          <p:cNvSpPr/>
          <p:nvPr/>
        </p:nvSpPr>
        <p:spPr>
          <a:xfrm>
            <a:off x="3005280" y="4646520"/>
            <a:ext cx="3369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ool getStatusPlay(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直線コネクタ 35"/>
          <p:cNvSpPr/>
          <p:nvPr/>
        </p:nvSpPr>
        <p:spPr>
          <a:xfrm flipV="1">
            <a:off x="3860640" y="3580920"/>
            <a:ext cx="108000" cy="1065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正方形/長方形 31"/>
          <p:cNvSpPr/>
          <p:nvPr/>
        </p:nvSpPr>
        <p:spPr>
          <a:xfrm>
            <a:off x="460800" y="5643720"/>
            <a:ext cx="46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vmlengine teg = GetComponent&lt;tvmlengine&gt;(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g.playScript(text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Text Box 9"/>
          <p:cNvSpPr/>
          <p:nvPr/>
        </p:nvSpPr>
        <p:spPr>
          <a:xfrm>
            <a:off x="5546880" y="5678640"/>
            <a:ext cx="359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K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インスタンスをゲットし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5546880" y="6105600"/>
            <a:ext cx="3371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をコールす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直線コネクタ 43"/>
          <p:cNvSpPr/>
          <p:nvPr/>
        </p:nvSpPr>
        <p:spPr>
          <a:xfrm flipH="1" flipV="1">
            <a:off x="5127120" y="5864400"/>
            <a:ext cx="419400" cy="26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4" name="直線コネクタ 45"/>
          <p:cNvSpPr/>
          <p:nvPr/>
        </p:nvSpPr>
        <p:spPr>
          <a:xfrm flipH="1" flipV="1">
            <a:off x="2484000" y="6186600"/>
            <a:ext cx="3062520" cy="13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236520" y="5175360"/>
            <a:ext cx="257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K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使い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6" name="Text Box 9"/>
          <p:cNvSpPr/>
          <p:nvPr/>
        </p:nvSpPr>
        <p:spPr>
          <a:xfrm>
            <a:off x="1461960" y="1146240"/>
            <a:ext cx="70200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基本動作：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M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クリプト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投げて再生す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1"/>
          <p:cNvSpPr/>
          <p:nvPr/>
        </p:nvSpPr>
        <p:spPr>
          <a:xfrm>
            <a:off x="488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2VSDK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8" name="Text Box 2"/>
          <p:cNvSpPr/>
          <p:nvPr/>
        </p:nvSpPr>
        <p:spPr>
          <a:xfrm>
            <a:off x="3446640" y="784080"/>
            <a:ext cx="323352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vmlengin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クラ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正方形/長方形 24"/>
          <p:cNvSpPr/>
          <p:nvPr/>
        </p:nvSpPr>
        <p:spPr>
          <a:xfrm>
            <a:off x="681840" y="1449360"/>
            <a:ext cx="78433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itialize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初期化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playScript(string tvmlscrip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TVM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スクリプト再生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playScriptNoReset(string tvmlscrip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同上（ただし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rese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しない）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terruptScript(string tvmlscrip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割り込みスクリプト再生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terruptScriptThenIdling(string tvmlscrip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同上。ただし終了後アイドリン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terruptScriptThenReturnToMain(string tvmlscrip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割り込みスクリプト後メインへ戻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returnToMainScript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メインスクリプトへ戻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t getLinenumber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現在再生中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TVM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行番号を返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bool getStatusPlay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現在、再生中か否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int getInterruptDepth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割り込み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Depth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を返す（最大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:127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play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再生開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stop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停止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reset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もする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pause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ポー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restart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現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play(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を同様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switchCamera(string cam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カメラをスイッチングす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Osaka"/>
              </a:rPr>
              <a:t>setPlayerViewPortRect(float x, float y, float width, float height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Osaka"/>
              </a:rPr>
              <a:t>　：　再生エリア設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SDK</a:t>
            </a: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プログラミング初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Text Box 3"/>
          <p:cNvSpPr/>
          <p:nvPr/>
        </p:nvSpPr>
        <p:spPr>
          <a:xfrm>
            <a:off x="528480" y="1044720"/>
            <a:ext cx="826956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Hierarchy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ペインにあるオブジェクトを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Delete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して空に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ssets/TVMLSDK/Scripts/Resources/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にあるプレハブの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"tvml"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を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Hierarchy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ペインにドラグアンドドロップ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2668680" y="2473200"/>
            <a:ext cx="3848040" cy="4042080"/>
          </a:xfrm>
          <a:prstGeom prst="rect">
            <a:avLst/>
          </a:prstGeom>
          <a:ln w="0">
            <a:noFill/>
          </a:ln>
        </p:spPr>
      </p:pic>
      <p:cxnSp>
        <p:nvCxnSpPr>
          <p:cNvPr id="1033" name="直線矢印コネクタ 2"/>
          <p:cNvCxnSpPr/>
          <p:nvPr/>
        </p:nvCxnSpPr>
        <p:spPr>
          <a:xfrm flipH="1" flipV="1">
            <a:off x="3323880" y="2847240"/>
            <a:ext cx="800640" cy="2229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C#</a:t>
            </a: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ソースファイル作成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5" name="Rectangle 13"/>
          <p:cNvSpPr/>
          <p:nvPr/>
        </p:nvSpPr>
        <p:spPr>
          <a:xfrm>
            <a:off x="2304000" y="2451240"/>
            <a:ext cx="4353480" cy="40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80000" bIns="180000" anchor="t">
            <a:spAutoFit/>
          </a:bodyPr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ing UnityEngine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ing System.Collections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class simple : MonoBehaviour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// Use this for initializ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id Start ()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// Update is called once per fra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id Update ()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6" name="Text Box 3"/>
          <p:cNvSpPr/>
          <p:nvPr/>
        </p:nvSpPr>
        <p:spPr>
          <a:xfrm>
            <a:off x="425520" y="139860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ssets/aplications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の下で右クリックし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Create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C# Script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でソースファイルを作成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注：　ファイル名とクラス名を同じにすること。そうしないとこの後アタッチするときエラーになる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コードを書く：　エンジン取得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Text Box 3"/>
          <p:cNvSpPr/>
          <p:nvPr/>
        </p:nvSpPr>
        <p:spPr>
          <a:xfrm>
            <a:off x="425520" y="112068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コンポーネントをゲットして初期化と、描画エリア設定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9" name="Rectangle 13"/>
          <p:cNvSpPr/>
          <p:nvPr/>
        </p:nvSpPr>
        <p:spPr>
          <a:xfrm>
            <a:off x="2175120" y="2616120"/>
            <a:ext cx="4906440" cy="279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80000" bIns="180000" anchor="t">
            <a:spAutoFit/>
          </a:bodyPr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class hayashi : MonoBehaviour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vmlengine teg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id Start ()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 = GetComponent&lt;tvmlengine&gt;(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.initialize()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.setPlayerViewPortRect(0, 0, 1, 1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・・・・・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 Box 3"/>
          <p:cNvSpPr/>
          <p:nvPr/>
        </p:nvSpPr>
        <p:spPr>
          <a:xfrm>
            <a:off x="425520" y="33336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コードを書く：　</a:t>
            </a:r>
            <a:r>
              <a:rPr b="0" lang="en-US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32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スクリプト再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979560" y="1217520"/>
            <a:ext cx="70707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」のキーを押すと、</a:t>
            </a:r>
            <a:r>
              <a:rPr b="0" lang="en-US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TVML</a:t>
            </a:r>
            <a:r>
              <a:rPr b="0" lang="ja-JP" sz="2000" spc="-1" strike="noStrike">
                <a:solidFill>
                  <a:srgbClr val="000000"/>
                </a:solidFill>
                <a:latin typeface="Osaka"/>
                <a:ea typeface="ＭＳ Ｐゴシック"/>
              </a:rPr>
              <a:t>テキストファイルをメインスクリプトとして再生す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Rectangle 13"/>
          <p:cNvSpPr/>
          <p:nvPr/>
        </p:nvSpPr>
        <p:spPr>
          <a:xfrm>
            <a:off x="2106000" y="2316240"/>
            <a:ext cx="4659120" cy="330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80000" bIns="180000" anchor="t">
            <a:spAutoFit/>
          </a:bodyPr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class hayashi : MonoBehaviour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vmlengine teg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TextAsset txtAsset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id Start () {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・・・・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id Update()    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( Input.GetKey(KeyCode.A)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.playScript(txtAsset.text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199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1:08:34Z</dcterms:created>
  <dc:creator/>
  <dc:description/>
  <dc:language>en-US</dc:language>
  <cp:lastModifiedBy>hayasim77@gmail.com</cp:lastModifiedBy>
  <dcterms:modified xsi:type="dcterms:W3CDTF">2016-04-06T18:32:18Z</dcterms:modified>
  <cp:revision>178</cp:revision>
  <dc:subject/>
  <dc:title>T2V SDK について</dc:title>
</cp:coreProperties>
</file>